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9CF7-E158-4124-93DB-D452666BA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8A61-9A30-49B4-BD92-DB1B9E7FC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DD05-CDD9-4AB3-87F9-BD7D6999D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6FA8-C624-4BC7-B051-ED23FCFF3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1088-7026-4067-A65A-17149B3C5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F51D-E2DB-4E7A-9836-B826289D8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22A8-0D0B-4418-A4EA-5EB7FB57D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F51A-7284-4E0F-A3A7-6F7026047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C3A0-ABE4-4F57-9A8B-EBDE595AE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66D2-DB9D-42D6-A947-F3160BE5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B068-FC82-4AC1-AC64-B36D7D85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ECFE-24D5-4081-AAF9-76706C03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5B8E6-E1F3-4565-9AFA-C32B047FC8D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324000" y="1052640"/>
            <a:ext cx="8135640" cy="505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Kristen ITC"/>
              </a:rPr>
              <a:t>EXEMPLE </a:t>
            </a:r>
            <a:r>
              <a:rPr b="1" lang="fr-FR" sz="18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Bonjour  </a:t>
            </a: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fr-FR" sz="1800" spc="-1" strike="noStrike">
                <a:solidFill>
                  <a:srgbClr val="00cc00"/>
                </a:solidFill>
                <a:latin typeface="Kristen ITC"/>
              </a:rPr>
              <a:t>Salut</a:t>
            </a: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             </a:t>
            </a:r>
            <a:r>
              <a:rPr b="0" lang="fr-FR" sz="1800" spc="-1" strike="noStrike">
                <a:solidFill>
                  <a:srgbClr val="ff0000"/>
                </a:solidFill>
                <a:latin typeface="Kristen ITC"/>
              </a:rPr>
              <a:t>Au revoir</a:t>
            </a: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1908000" y="115920"/>
            <a:ext cx="4753080" cy="647640"/>
          </a:xfrm>
          <a:prstGeom prst="wedgeEllipseCallout">
            <a:avLst>
              <a:gd name="adj1" fmla="val -57546"/>
              <a:gd name="adj2" fmla="val 70097"/>
            </a:avLst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Trouvez les mots associ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262440" y="4653000"/>
            <a:ext cx="27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Avez-vous des ciseaux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6486480" y="2060640"/>
            <a:ext cx="17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cc00"/>
                </a:solidFill>
                <a:latin typeface="Kristen ITC"/>
              </a:rPr>
              <a:t>Je vais au cin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7018200" y="4581360"/>
            <a:ext cx="6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Kristen ITC"/>
              </a:rPr>
              <a:t>mi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3373560" y="2205000"/>
            <a:ext cx="110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cc00"/>
                </a:solidFill>
                <a:latin typeface="Kristen ITC"/>
              </a:rPr>
              <a:t>Vingt-s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4392000" y="3213000"/>
            <a:ext cx="2552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Kristen ITC"/>
              </a:rPr>
              <a:t>Je voudrais de la col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439920" y="306864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Parce 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4488840" y="6308640"/>
            <a:ext cx="27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cc00"/>
                </a:solidFill>
                <a:latin typeface="Kristen ITC"/>
              </a:rPr>
              <a:t>Deux heures moins cin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5383800" y="5589720"/>
            <a:ext cx="29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Kristen ITC"/>
              </a:rPr>
              <a:t>J’aimerais visiter la 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4255560" y="177336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Kristen ITC"/>
              </a:rPr>
              <a:t>J’aime les ma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3"/>
          <p:cNvSpPr/>
          <p:nvPr/>
        </p:nvSpPr>
        <p:spPr>
          <a:xfrm>
            <a:off x="3404880" y="5373720"/>
            <a:ext cx="138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Kristen ITC"/>
              </a:rPr>
              <a:t>Trente-h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4"/>
          <p:cNvSpPr/>
          <p:nvPr/>
        </p:nvSpPr>
        <p:spPr>
          <a:xfrm>
            <a:off x="78840" y="3933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Kristen ITC"/>
              </a:rPr>
              <a:t>Je vais à la pis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5"/>
          <p:cNvSpPr/>
          <p:nvPr/>
        </p:nvSpPr>
        <p:spPr>
          <a:xfrm>
            <a:off x="7983360" y="623736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B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6"/>
          <p:cNvSpPr/>
          <p:nvPr/>
        </p:nvSpPr>
        <p:spPr>
          <a:xfrm>
            <a:off x="7205040" y="314172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Quator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3721320" y="3933720"/>
            <a:ext cx="26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cc00"/>
                </a:solidFill>
                <a:latin typeface="Kristen ITC"/>
              </a:rPr>
              <a:t>Je vais aller à l’étra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8"/>
          <p:cNvSpPr/>
          <p:nvPr/>
        </p:nvSpPr>
        <p:spPr>
          <a:xfrm>
            <a:off x="7058160" y="3860640"/>
            <a:ext cx="14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Kristen ITC"/>
              </a:rPr>
              <a:t>C’est gén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460240" y="2852640"/>
            <a:ext cx="1695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Une heure d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0"/>
          <p:cNvSpPr/>
          <p:nvPr/>
        </p:nvSpPr>
        <p:spPr>
          <a:xfrm>
            <a:off x="445320" y="5661000"/>
            <a:ext cx="23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cc00"/>
                </a:solidFill>
                <a:latin typeface="Kristen ITC"/>
              </a:rPr>
              <a:t>Je préfère le franç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1"/>
          <p:cNvSpPr/>
          <p:nvPr/>
        </p:nvSpPr>
        <p:spPr>
          <a:xfrm>
            <a:off x="496800" y="6164280"/>
            <a:ext cx="172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Je joue au f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2"/>
          <p:cNvSpPr/>
          <p:nvPr/>
        </p:nvSpPr>
        <p:spPr>
          <a:xfrm>
            <a:off x="3264480" y="458136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J’adore le gallo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3"/>
          <p:cNvSpPr/>
          <p:nvPr/>
        </p:nvSpPr>
        <p:spPr>
          <a:xfrm>
            <a:off x="5672160" y="4797360"/>
            <a:ext cx="51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cc00"/>
                </a:solidFill>
                <a:latin typeface="Kristen ITC"/>
              </a:rPr>
              <a:t>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4"/>
          <p:cNvSpPr/>
          <p:nvPr/>
        </p:nvSpPr>
        <p:spPr>
          <a:xfrm>
            <a:off x="304920" y="1700280"/>
            <a:ext cx="2975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cc00"/>
                </a:solidFill>
                <a:latin typeface="Kristen ITC"/>
              </a:rPr>
              <a:t>Je peux aller aux toilet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6"/>
          <p:cNvSpPr/>
          <p:nvPr/>
        </p:nvSpPr>
        <p:spPr>
          <a:xfrm>
            <a:off x="1908000" y="4941720"/>
            <a:ext cx="14288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Kristen ITC"/>
              </a:rPr>
              <a:t>do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7"/>
          <p:cNvSpPr/>
          <p:nvPr/>
        </p:nvSpPr>
        <p:spPr>
          <a:xfrm>
            <a:off x="813600" y="2421000"/>
            <a:ext cx="186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Je veux voy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8"/>
          <p:cNvSpPr/>
          <p:nvPr/>
        </p:nvSpPr>
        <p:spPr>
          <a:xfrm>
            <a:off x="4986720" y="2708280"/>
            <a:ext cx="186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cc00"/>
                </a:solidFill>
                <a:latin typeface="Kristen ITC"/>
              </a:rPr>
              <a:t>C’est ennuyeux</a:t>
            </a:r>
            <a:r>
              <a:rPr b="0" lang="fr-FR" sz="1800" spc="-1" strike="noStrike">
                <a:solidFill>
                  <a:srgbClr val="ff0000"/>
                </a:solidFill>
                <a:latin typeface="Kristen IT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Oval 4"/>
          <p:cNvSpPr/>
          <p:nvPr/>
        </p:nvSpPr>
        <p:spPr>
          <a:xfrm>
            <a:off x="1836720" y="1989000"/>
            <a:ext cx="5111640" cy="2519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Kristen ITC"/>
              </a:rPr>
              <a:t>Trouvez l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Kristen ITC"/>
              </a:rPr>
              <a:t>phrases similai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0"/>
            <a:ext cx="4427640" cy="105264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aller à l’étra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4427640" y="0"/>
            <a:ext cx="4716360" cy="105264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La physique,c’est ennuye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0" y="3933720"/>
            <a:ext cx="4427640" cy="93672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mes proje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pour l’aven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0" y="1052640"/>
            <a:ext cx="4427640" cy="93636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J’aime beaucoup nag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4427640" y="2997360"/>
            <a:ext cx="4716360" cy="93636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j’ai l’intention de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0" y="1989000"/>
            <a:ext cx="4429080" cy="100836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Je déteste les sc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4427640" y="1052640"/>
            <a:ext cx="4716360" cy="93636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J’adore  jouer au foot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3"/>
          <p:cNvSpPr/>
          <p:nvPr/>
        </p:nvSpPr>
        <p:spPr>
          <a:xfrm>
            <a:off x="4427640" y="1989000"/>
            <a:ext cx="4716360" cy="100836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Je vais apprendre une lang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étrangère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5"/>
          <p:cNvSpPr/>
          <p:nvPr/>
        </p:nvSpPr>
        <p:spPr>
          <a:xfrm>
            <a:off x="0" y="2997360"/>
            <a:ext cx="4427640" cy="93636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Il est trois heures et dem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6"/>
          <p:cNvSpPr/>
          <p:nvPr/>
        </p:nvSpPr>
        <p:spPr>
          <a:xfrm>
            <a:off x="4427640" y="4869000"/>
            <a:ext cx="4716360" cy="117936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Il est quinze heures tr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7"/>
          <p:cNvSpPr/>
          <p:nvPr/>
        </p:nvSpPr>
        <p:spPr>
          <a:xfrm>
            <a:off x="4427640" y="3933720"/>
            <a:ext cx="4716360" cy="93528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visiter un autre p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9"/>
          <p:cNvSpPr/>
          <p:nvPr/>
        </p:nvSpPr>
        <p:spPr>
          <a:xfrm>
            <a:off x="0" y="4869000"/>
            <a:ext cx="4427640" cy="108108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ma passion c’est le f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0"/>
          <p:cNvSpPr/>
          <p:nvPr/>
        </p:nvSpPr>
        <p:spPr>
          <a:xfrm>
            <a:off x="0" y="5965920"/>
            <a:ext cx="4427640" cy="89208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Je vais étudier le franç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1"/>
          <p:cNvSpPr/>
          <p:nvPr/>
        </p:nvSpPr>
        <p:spPr>
          <a:xfrm>
            <a:off x="4464000" y="5923080"/>
            <a:ext cx="4680000" cy="93492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J’adore la na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101" nodeType="clickEffect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107" nodeType="clickEffect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113" nodeType="clickEffect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119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125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131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137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143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149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155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161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6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167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7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173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7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179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8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4"/>
          <p:cNvSpPr/>
          <p:nvPr/>
        </p:nvSpPr>
        <p:spPr>
          <a:xfrm>
            <a:off x="0" y="0"/>
            <a:ext cx="4427640" cy="105264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aller à l’étra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7"/>
          <p:cNvSpPr/>
          <p:nvPr/>
        </p:nvSpPr>
        <p:spPr>
          <a:xfrm>
            <a:off x="4427640" y="0"/>
            <a:ext cx="4716360" cy="98100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visiter un autre p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052640"/>
            <a:ext cx="4427640" cy="93636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J’aime beaucoup nag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1"/>
          <p:cNvSpPr/>
          <p:nvPr/>
        </p:nvSpPr>
        <p:spPr>
          <a:xfrm>
            <a:off x="4464000" y="981000"/>
            <a:ext cx="4680000" cy="9352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J’adore la na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0"/>
          <p:cNvSpPr/>
          <p:nvPr/>
        </p:nvSpPr>
        <p:spPr>
          <a:xfrm>
            <a:off x="0" y="1989000"/>
            <a:ext cx="4429080" cy="100836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Je déteste les sc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4427640" y="1916280"/>
            <a:ext cx="4716360" cy="105228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La physique,c’est ennuye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5"/>
          <p:cNvSpPr/>
          <p:nvPr/>
        </p:nvSpPr>
        <p:spPr>
          <a:xfrm>
            <a:off x="0" y="2997360"/>
            <a:ext cx="4427640" cy="93636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Il est trois heures et dem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6"/>
          <p:cNvSpPr/>
          <p:nvPr/>
        </p:nvSpPr>
        <p:spPr>
          <a:xfrm>
            <a:off x="4427640" y="2997360"/>
            <a:ext cx="4716360" cy="93636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Il est quinze heures tr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0" y="3933720"/>
            <a:ext cx="4427640" cy="93672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mes proje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pour l’aven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4427640" y="3933720"/>
            <a:ext cx="4716360" cy="93672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j’ai l’intention de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9"/>
          <p:cNvSpPr/>
          <p:nvPr/>
        </p:nvSpPr>
        <p:spPr>
          <a:xfrm>
            <a:off x="0" y="4869000"/>
            <a:ext cx="4427640" cy="108108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ma passion c’est le f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4427640" y="4941720"/>
            <a:ext cx="4716360" cy="100836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J’adore  jouer au foot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0"/>
          <p:cNvSpPr/>
          <p:nvPr/>
        </p:nvSpPr>
        <p:spPr>
          <a:xfrm>
            <a:off x="0" y="5965920"/>
            <a:ext cx="4427640" cy="89208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Je vais étudier le franç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3"/>
          <p:cNvSpPr/>
          <p:nvPr/>
        </p:nvSpPr>
        <p:spPr>
          <a:xfrm>
            <a:off x="4427640" y="5850000"/>
            <a:ext cx="4716360" cy="100800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Je vais apprendre une lang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étrangère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271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7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6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277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8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283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8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8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289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9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4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295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9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301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0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6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307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1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2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313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1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319" nodeType="clickEffect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2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4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325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2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331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3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6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337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4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2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343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4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8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349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5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179280" y="274680"/>
          <a:ext cx="8425080" cy="6334200"/>
        </p:xfrm>
        <a:graphic>
          <a:graphicData uri="http://schemas.openxmlformats.org/drawingml/2006/table">
            <a:tbl>
              <a:tblPr/>
              <a:tblGrid>
                <a:gridCol w="1685880"/>
                <a:gridCol w="1684440"/>
                <a:gridCol w="1684440"/>
                <a:gridCol w="1684440"/>
                <a:gridCol w="1685880"/>
              </a:tblGrid>
              <a:tr h="10544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Kristen ITC"/>
                        </a:rPr>
                        <a:t>Saesne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Kristen ITC"/>
                        </a:rPr>
                        <a:t>cw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Kristen ITC"/>
                        </a:rPr>
                        <a:t>ceg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Kristen ITC"/>
                        </a:rPr>
                        <a:t>tu all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Kristen ITC"/>
                        </a:rPr>
                        <a:t>ysg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01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Kristen ITC"/>
                        </a:rPr>
                        <a:t>mer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Kristen ITC"/>
                        </a:rPr>
                        <a:t>bachg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Kristen ITC"/>
                        </a:rPr>
                        <a:t>gwes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Kristen ITC"/>
                        </a:rPr>
                        <a:t>ny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Kristen ITC"/>
                        </a:rPr>
                        <a:t>Mehe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Kristen ITC"/>
                        </a:rPr>
                        <a:t>cangar</a:t>
                      </a: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Calibri"/>
                        </a:rPr>
                        <a:t>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Kristen ITC"/>
                        </a:rPr>
                        <a:t>cwning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Kristen ITC"/>
                        </a:rPr>
                        <a:t>Canol dyd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Kristen ITC"/>
                        </a:rPr>
                        <a:t>anobeithi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Kristen ITC"/>
                        </a:rPr>
                        <a:t>anghof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30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Kristen ITC"/>
                        </a:rPr>
                        <a:t>siar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Kristen ITC"/>
                        </a:rPr>
                        <a:t>gada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Kristen ITC"/>
                        </a:rPr>
                        <a:t>Pren mes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Kristen ITC"/>
                        </a:rPr>
                        <a:t>yn am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Kristen ITC"/>
                        </a:rPr>
                        <a:t>toil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97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Kristen ITC"/>
                        </a:rPr>
                        <a:t>defnyddi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Kristen ITC"/>
                        </a:rPr>
                        <a:t>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Kristen ITC"/>
                        </a:rPr>
                        <a:t>penwythn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Kristen ITC"/>
                        </a:rPr>
                        <a:t>llyga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20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Kristen ITC"/>
                        </a:rPr>
                        <a:t>d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ff0000"/>
                          </a:solidFill>
                          <a:latin typeface="Kristen ITC"/>
                        </a:rPr>
                        <a:t>Quel est le mot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179280" y="274680"/>
          <a:ext cx="8713800" cy="6334200"/>
        </p:xfrm>
        <a:graphic>
          <a:graphicData uri="http://schemas.openxmlformats.org/drawingml/2006/table">
            <a:tbl>
              <a:tblPr/>
              <a:tblGrid>
                <a:gridCol w="1743120"/>
                <a:gridCol w="1641600"/>
                <a:gridCol w="1843200"/>
                <a:gridCol w="1742760"/>
                <a:gridCol w="1743120"/>
              </a:tblGrid>
              <a:tr h="105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Angla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Kristen ITC"/>
                        </a:rPr>
                        <a:t>Saesne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Batea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Kristen ITC"/>
                        </a:rPr>
                        <a:t>cw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Cuis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Kristen ITC"/>
                        </a:rPr>
                        <a:t>ceg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Deh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Kristen ITC"/>
                        </a:rPr>
                        <a:t>tu all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Ec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Kristen ITC"/>
                        </a:rPr>
                        <a:t>ysg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4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Fil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Kristen ITC"/>
                        </a:rPr>
                        <a:t>mer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Garç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Kristen ITC"/>
                        </a:rPr>
                        <a:t>bachg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Hôt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Kristen ITC"/>
                        </a:rPr>
                        <a:t>gaea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Infirmi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Kristen ITC"/>
                        </a:rPr>
                        <a:t>ny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Ju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Kristen ITC"/>
                        </a:rPr>
                        <a:t>Mehe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Kangour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Kristen ITC"/>
                        </a:rPr>
                        <a:t>cangar</a:t>
                      </a: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Calibri"/>
                        </a:rPr>
                        <a:t>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Lendema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Kristen ITC"/>
                        </a:rPr>
                        <a:t>y diwrnod olynn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Mid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Kristen ITC"/>
                        </a:rPr>
                        <a:t>Canol dyd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N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Kristen ITC"/>
                        </a:rPr>
                        <a:t>anobeithi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Oubli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Kristen ITC"/>
                        </a:rPr>
                        <a:t>anghof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5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Parl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Kristen ITC"/>
                        </a:rPr>
                        <a:t>siar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Quit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Kristen ITC"/>
                        </a:rPr>
                        <a:t>gada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Règ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Kristen ITC"/>
                        </a:rPr>
                        <a:t>gwybodae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Sou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Kristen ITC"/>
                        </a:rPr>
                        <a:t>yn am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Toilet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Kristen ITC"/>
                        </a:rPr>
                        <a:t>Toil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4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Uti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Kristen ITC"/>
                        </a:rPr>
                        <a:t>defnyddi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Voi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Kristen ITC"/>
                        </a:rPr>
                        <a:t>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Week-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Kristen ITC"/>
                        </a:rPr>
                        <a:t>penwythn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Yeu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Kristen ITC"/>
                        </a:rPr>
                        <a:t>llyga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Kristen ITC"/>
                        </a:rPr>
                        <a:t>Zé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66ff"/>
                          </a:solidFill>
                          <a:latin typeface="Kristen ITC"/>
                        </a:rPr>
                        <a:t>d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600" spc="-1" strike="noStrike">
                          <a:solidFill>
                            <a:srgbClr val="ff0000"/>
                          </a:solidFill>
                          <a:latin typeface="Kristen ITC"/>
                        </a:rPr>
                        <a:t>Solutio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AutoShape 5"/>
          <p:cNvSpPr/>
          <p:nvPr/>
        </p:nvSpPr>
        <p:spPr>
          <a:xfrm>
            <a:off x="2340000" y="260280"/>
            <a:ext cx="6624720" cy="6193080"/>
          </a:xfrm>
          <a:prstGeom prst="pi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Kristen ITC"/>
              </a:rPr>
              <a:t>Sialens berf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6" descr="dominos_white_lg_clr_me"/>
          <p:cNvPicPr/>
          <p:nvPr/>
        </p:nvPicPr>
        <p:blipFill>
          <a:blip r:embed="rId1"/>
          <a:stretch/>
        </p:blipFill>
        <p:spPr>
          <a:xfrm>
            <a:off x="250920" y="1341360"/>
            <a:ext cx="33843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4"/>
          <p:cNvSpPr/>
          <p:nvPr/>
        </p:nvSpPr>
        <p:spPr>
          <a:xfrm>
            <a:off x="0" y="-27000"/>
            <a:ext cx="9144000" cy="67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regarder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edrych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offrir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cynni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goûter                    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blasu 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écouter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gwrando 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voyager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                  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teithio 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                </a:t>
            </a: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découvrir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        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darganfod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suivre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dilyn 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se reposer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gorffwy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manger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bwyta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prendre 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cymry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savoir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gwybod 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pouvoir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medru/gallu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boire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yfed  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aimer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hoff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rougir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derbyn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dépenser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gwario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s’amuser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mwynhau’ch hunan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avoir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bod gyda/ca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être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bod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devoir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gorfo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rentrer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dychwelyd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parler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siarad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s’ennuyer</a:t>
            </a: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diflasu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apprécier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gwerthfawrog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trouver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ffeindio/darganfod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naître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cael eich gen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changer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newid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porter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gwisgo/cari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connaître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adnabod 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enregistrer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recordi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entendre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clywed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adorer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caru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forcer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gorfodi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essayer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ceisi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perdre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colli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se passionner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bod yn frwd dr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donner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rhoi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répondre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 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ate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se maquiller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rhoi colur arno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admirer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edmygu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aider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helpu/cynorthwyo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écrire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ysgrifennu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communiquer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cyfathrebu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chanter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canu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dire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dweud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insister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mynnu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travailler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gweithio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vouloir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eisiau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arrêter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stopio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habiter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byw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détester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casau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quitter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gada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s’énerver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digio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préférer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bod yn well gennyc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arriver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cyrraedd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réussir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llwydd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organiser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trefnu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6666ff"/>
                </a:solidFill>
                <a:latin typeface="Kristen ITC"/>
              </a:rPr>
              <a:t>embêter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Kristen ITC"/>
              </a:rPr>
              <a:t>poenydi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1619280" y="-4680"/>
            <a:ext cx="2519280" cy="6858000"/>
          </a:xfrm>
          <a:prstGeom prst="rect">
            <a:avLst/>
          </a:prstGeom>
          <a:solidFill>
            <a:srgbClr val="99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6084720" y="0"/>
            <a:ext cx="2843280" cy="6858000"/>
          </a:xfrm>
          <a:prstGeom prst="rect">
            <a:avLst/>
          </a:prstGeom>
          <a:solidFill>
            <a:srgbClr val="99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3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0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3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5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14"/>
          <p:cNvGrpSpPr/>
          <p:nvPr/>
        </p:nvGrpSpPr>
        <p:grpSpPr>
          <a:xfrm>
            <a:off x="1979640" y="115920"/>
            <a:ext cx="7129440" cy="6264360"/>
            <a:chOff x="1979640" y="115920"/>
            <a:chExt cx="7129440" cy="6264360"/>
          </a:xfrm>
        </p:grpSpPr>
        <p:sp>
          <p:nvSpPr>
            <p:cNvPr id="197" name="Oval 4"/>
            <p:cNvSpPr/>
            <p:nvPr/>
          </p:nvSpPr>
          <p:spPr>
            <a:xfrm>
              <a:off x="1979640" y="2205360"/>
              <a:ext cx="4824360" cy="41749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5"/>
            <p:cNvSpPr/>
            <p:nvPr/>
          </p:nvSpPr>
          <p:spPr>
            <a:xfrm>
              <a:off x="4284720" y="2133720"/>
              <a:ext cx="4824360" cy="4175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9"/>
            <p:cNvSpPr/>
            <p:nvPr/>
          </p:nvSpPr>
          <p:spPr>
            <a:xfrm>
              <a:off x="2989440" y="115920"/>
              <a:ext cx="4824360" cy="4175280"/>
            </a:xfrm>
            <a:prstGeom prst="ellipse">
              <a:avLst/>
            </a:pr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10"/>
            <p:cNvSpPr/>
            <p:nvPr/>
          </p:nvSpPr>
          <p:spPr>
            <a:xfrm>
              <a:off x="3641040" y="5804280"/>
              <a:ext cx="79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Kristen ITC"/>
                </a:rPr>
                <a:t>Pass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11"/>
            <p:cNvSpPr/>
            <p:nvPr/>
          </p:nvSpPr>
          <p:spPr>
            <a:xfrm>
              <a:off x="6539760" y="5877000"/>
              <a:ext cx="100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0000"/>
                  </a:solidFill>
                  <a:latin typeface="Kristen ITC"/>
                </a:rPr>
                <a:t>Prés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12"/>
            <p:cNvSpPr/>
            <p:nvPr/>
          </p:nvSpPr>
          <p:spPr>
            <a:xfrm>
              <a:off x="4886280" y="260640"/>
              <a:ext cx="759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cc00"/>
                  </a:solidFill>
                  <a:latin typeface="Kristen ITC"/>
                </a:rPr>
                <a:t>Fut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Rectangle 13"/>
          <p:cNvSpPr/>
          <p:nvPr/>
        </p:nvSpPr>
        <p:spPr>
          <a:xfrm>
            <a:off x="0" y="44280"/>
            <a:ext cx="3851280" cy="67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Tôt </a:t>
            </a: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Déj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Hier</a:t>
            </a: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Il y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Tard </a:t>
            </a: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Après </a:t>
            </a: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Avant </a:t>
            </a: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Demain</a:t>
            </a: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Dernier </a:t>
            </a: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A la fo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Parfois </a:t>
            </a: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Touj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Plus tard</a:t>
            </a: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Procha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Souvent </a:t>
            </a: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A l’aveni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Maintena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Longtemp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Récem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Lendema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En train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Tout à cou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Avant-hi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D’habitu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Après-mi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Aujourd’hu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Tous les jo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en ce mo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Normale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En attenda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Après-demain </a:t>
            </a: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Sur le point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Dans une minute</a:t>
            </a: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Kristen ITC"/>
              </a:rPr>
              <a:t>De temps en tem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0" y="1341360"/>
            <a:ext cx="9144000" cy="453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Avez-vous des ciseaux?  </a:t>
            </a: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    </a:t>
            </a:r>
            <a:r>
              <a:rPr b="0" lang="fr-FR" sz="1800" spc="-1" strike="noStrike">
                <a:solidFill>
                  <a:srgbClr val="00cc00"/>
                </a:solidFill>
                <a:latin typeface="Kristen ITC"/>
              </a:rPr>
              <a:t>Je peux aller aux toilettes?</a:t>
            </a: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      </a:t>
            </a:r>
            <a:r>
              <a:rPr b="0" lang="fr-FR" sz="1800" spc="-1" strike="noStrike">
                <a:solidFill>
                  <a:srgbClr val="ff0000"/>
                </a:solidFill>
                <a:latin typeface="Kristen ITC"/>
              </a:rPr>
              <a:t>Je voudrais de la co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Quatorze </a:t>
            </a: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    </a:t>
            </a:r>
            <a:r>
              <a:rPr b="0" lang="fr-FR" sz="1800" spc="-1" strike="noStrike">
                <a:solidFill>
                  <a:srgbClr val="00cc00"/>
                </a:solidFill>
                <a:latin typeface="Kristen ITC"/>
              </a:rPr>
              <a:t>Vingt-six</a:t>
            </a: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fr-FR" sz="1800" spc="-1" strike="noStrike">
                <a:solidFill>
                  <a:srgbClr val="ff0000"/>
                </a:solidFill>
                <a:latin typeface="Kristen ITC"/>
              </a:rPr>
              <a:t>              Trente-h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Bof</a:t>
            </a:r>
            <a:r>
              <a:rPr b="0" lang="fr-FR" sz="1800" spc="-1" strike="noStrike">
                <a:solidFill>
                  <a:srgbClr val="ff0000"/>
                </a:solidFill>
                <a:latin typeface="Kristen ITC"/>
              </a:rPr>
              <a:t> </a:t>
            </a:r>
            <a:r>
              <a:rPr b="0" lang="fr-FR" sz="1800" spc="-1" strike="noStrike">
                <a:solidFill>
                  <a:srgbClr val="ff0000"/>
                </a:solidFill>
                <a:latin typeface="Kristen ITC"/>
              </a:rPr>
              <a:t>	</a:t>
            </a:r>
            <a:r>
              <a:rPr b="0" lang="fr-FR" sz="1800" spc="-1" strike="noStrike">
                <a:solidFill>
                  <a:srgbClr val="ff0000"/>
                </a:solidFill>
                <a:latin typeface="Kristen ITC"/>
              </a:rPr>
              <a:t>	</a:t>
            </a:r>
            <a:r>
              <a:rPr b="0" lang="fr-FR" sz="1800" spc="-1" strike="noStrike">
                <a:solidFill>
                  <a:srgbClr val="00cc00"/>
                </a:solidFill>
                <a:latin typeface="Kristen ITC"/>
              </a:rPr>
              <a:t>                  C’est ennuyeux</a:t>
            </a:r>
            <a:r>
              <a:rPr b="0" lang="fr-FR" sz="1800" spc="-1" strike="noStrike">
                <a:solidFill>
                  <a:srgbClr val="ff0000"/>
                </a:solidFill>
                <a:latin typeface="Kristen ITC"/>
              </a:rPr>
              <a:t>	</a:t>
            </a:r>
            <a:r>
              <a:rPr b="0" lang="fr-FR" sz="1800" spc="-1" strike="noStrike">
                <a:solidFill>
                  <a:srgbClr val="ff0000"/>
                </a:solidFill>
                <a:latin typeface="Kristen ITC"/>
              </a:rPr>
              <a:t>              C’est gén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Parce que</a:t>
            </a:r>
            <a:r>
              <a:rPr b="0" lang="fr-FR" sz="1800" spc="-1" strike="noStrike">
                <a:solidFill>
                  <a:srgbClr val="ff0000"/>
                </a:solidFill>
                <a:latin typeface="Kristen ITC"/>
              </a:rPr>
              <a:t> </a:t>
            </a:r>
            <a:r>
              <a:rPr b="0" lang="fr-FR" sz="1800" spc="-1" strike="noStrike">
                <a:solidFill>
                  <a:srgbClr val="ff0000"/>
                </a:solidFill>
                <a:latin typeface="Kristen ITC"/>
              </a:rPr>
              <a:t>	</a:t>
            </a:r>
            <a:r>
              <a:rPr b="0" lang="fr-FR" sz="1800" spc="-1" strike="noStrike">
                <a:solidFill>
                  <a:srgbClr val="ff0000"/>
                </a:solidFill>
                <a:latin typeface="Kristen ITC"/>
              </a:rPr>
              <a:t>	</a:t>
            </a:r>
            <a:r>
              <a:rPr b="0" lang="fr-FR" sz="1800" spc="-1" strike="noStrike">
                <a:solidFill>
                  <a:srgbClr val="ff0000"/>
                </a:solidFill>
                <a:latin typeface="Kristen ITC"/>
              </a:rPr>
              <a:t>     </a:t>
            </a:r>
            <a:r>
              <a:rPr b="0" lang="fr-FR" sz="1800" spc="-1" strike="noStrike">
                <a:solidFill>
                  <a:srgbClr val="00ff00"/>
                </a:solidFill>
                <a:latin typeface="Kristen ITC"/>
              </a:rPr>
              <a:t>Car</a:t>
            </a:r>
            <a:r>
              <a:rPr b="0" lang="fr-FR" sz="1800" spc="-1" strike="noStrike">
                <a:solidFill>
                  <a:srgbClr val="ff0000"/>
                </a:solidFill>
                <a:latin typeface="Kristen ITC"/>
              </a:rPr>
              <a:t>	</a:t>
            </a:r>
            <a:r>
              <a:rPr b="0" lang="fr-FR" sz="1800" spc="-1" strike="noStrike">
                <a:solidFill>
                  <a:srgbClr val="ff0000"/>
                </a:solidFill>
                <a:latin typeface="Kristen ITC"/>
              </a:rPr>
              <a:t>	</a:t>
            </a:r>
            <a:r>
              <a:rPr b="0" lang="fr-FR" sz="1800" spc="-1" strike="noStrike">
                <a:solidFill>
                  <a:srgbClr val="ff0000"/>
                </a:solidFill>
                <a:latin typeface="Kristen ITC"/>
              </a:rPr>
              <a:t>                            Do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Une heure dix</a:t>
            </a:r>
            <a:r>
              <a:rPr b="0" lang="fr-FR" sz="1800" spc="-1" strike="noStrike">
                <a:solidFill>
                  <a:srgbClr val="ff0000"/>
                </a:solidFill>
                <a:latin typeface="Kristen ITC"/>
              </a:rPr>
              <a:t> </a:t>
            </a:r>
            <a:r>
              <a:rPr b="0" lang="fr-FR" sz="1800" spc="-1" strike="noStrike">
                <a:solidFill>
                  <a:srgbClr val="ff0000"/>
                </a:solidFill>
                <a:latin typeface="Kristen ITC"/>
              </a:rPr>
              <a:t>	</a:t>
            </a:r>
            <a:r>
              <a:rPr b="0" lang="fr-FR" sz="1800" spc="-1" strike="noStrike">
                <a:solidFill>
                  <a:srgbClr val="ff0000"/>
                </a:solidFill>
                <a:latin typeface="Kristen ITC"/>
              </a:rPr>
              <a:t>	</a:t>
            </a:r>
            <a:r>
              <a:rPr b="0" lang="fr-FR" sz="1800" spc="-1" strike="noStrike">
                <a:solidFill>
                  <a:srgbClr val="ff0000"/>
                </a:solidFill>
                <a:latin typeface="Kristen ITC"/>
              </a:rPr>
              <a:t>     </a:t>
            </a:r>
            <a:r>
              <a:rPr b="0" lang="fr-FR" sz="1800" spc="-1" strike="noStrike">
                <a:solidFill>
                  <a:srgbClr val="00cc00"/>
                </a:solidFill>
                <a:latin typeface="Kristen ITC"/>
              </a:rPr>
              <a:t>D</a:t>
            </a:r>
            <a:r>
              <a:rPr b="0" lang="fr-FR" sz="1800" spc="-1" strike="noStrike">
                <a:solidFill>
                  <a:srgbClr val="00ff00"/>
                </a:solidFill>
                <a:latin typeface="Kristen ITC"/>
              </a:rPr>
              <a:t>eux heures moins cinq           </a:t>
            </a:r>
            <a:r>
              <a:rPr b="0" lang="fr-FR" sz="1800" spc="-1" strike="noStrike">
                <a:solidFill>
                  <a:srgbClr val="ff0000"/>
                </a:solidFill>
                <a:latin typeface="Kristen ITC"/>
              </a:rPr>
              <a:t>Mi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Je joue au foot </a:t>
            </a:r>
            <a:r>
              <a:rPr b="0" lang="fr-FR" sz="1800" spc="-1" strike="noStrike">
                <a:solidFill>
                  <a:srgbClr val="ff0000"/>
                </a:solidFill>
                <a:latin typeface="Kristen ITC"/>
              </a:rPr>
              <a:t>                   </a:t>
            </a:r>
            <a:r>
              <a:rPr b="0" lang="fr-FR" sz="1800" spc="-1" strike="noStrike">
                <a:solidFill>
                  <a:srgbClr val="00cc00"/>
                </a:solidFill>
                <a:latin typeface="Kristen ITC"/>
              </a:rPr>
              <a:t>Je vais au ciné </a:t>
            </a:r>
            <a:r>
              <a:rPr b="0" lang="fr-FR" sz="1800" spc="-1" strike="noStrike">
                <a:solidFill>
                  <a:srgbClr val="ff0000"/>
                </a:solidFill>
                <a:latin typeface="Kristen ITC"/>
              </a:rPr>
              <a:t>                         Je vais à la pis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J’adore le gallois</a:t>
            </a:r>
            <a:r>
              <a:rPr b="0" lang="fr-FR" sz="1800" spc="-1" strike="noStrike">
                <a:solidFill>
                  <a:srgbClr val="ff0000"/>
                </a:solidFill>
                <a:latin typeface="Kristen ITC"/>
              </a:rPr>
              <a:t>	</a:t>
            </a:r>
            <a:r>
              <a:rPr b="0" lang="fr-FR" sz="1800" spc="-1" strike="noStrike">
                <a:solidFill>
                  <a:srgbClr val="ff0000"/>
                </a:solidFill>
                <a:latin typeface="Kristen ITC"/>
              </a:rPr>
              <a:t>     </a:t>
            </a:r>
            <a:r>
              <a:rPr b="0" lang="fr-FR" sz="1800" spc="-1" strike="noStrike">
                <a:solidFill>
                  <a:srgbClr val="00cc00"/>
                </a:solidFill>
                <a:latin typeface="Kristen ITC"/>
              </a:rPr>
              <a:t>Je préfère le français</a:t>
            </a:r>
            <a:r>
              <a:rPr b="0" lang="fr-FR" sz="1800" spc="-1" strike="noStrike">
                <a:solidFill>
                  <a:srgbClr val="ff0000"/>
                </a:solidFill>
                <a:latin typeface="Kristen ITC"/>
              </a:rPr>
              <a:t> </a:t>
            </a:r>
            <a:r>
              <a:rPr b="0" lang="fr-FR" sz="1800" spc="-1" strike="noStrike">
                <a:solidFill>
                  <a:srgbClr val="ff0000"/>
                </a:solidFill>
                <a:latin typeface="Kristen ITC"/>
              </a:rPr>
              <a:t>	</a:t>
            </a:r>
            <a:r>
              <a:rPr b="0" lang="fr-FR" sz="1800" spc="-1" strike="noStrike">
                <a:solidFill>
                  <a:srgbClr val="ff0000"/>
                </a:solidFill>
                <a:latin typeface="Kristen ITC"/>
              </a:rPr>
              <a:t>J’aime les ma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Je veux voyager</a:t>
            </a:r>
            <a:r>
              <a:rPr b="0" lang="fr-FR" sz="1800" spc="-1" strike="noStrike">
                <a:solidFill>
                  <a:srgbClr val="ff0000"/>
                </a:solidFill>
                <a:latin typeface="Kristen ITC"/>
              </a:rPr>
              <a:t> </a:t>
            </a:r>
            <a:r>
              <a:rPr b="0" lang="fr-FR" sz="1800" spc="-1" strike="noStrike">
                <a:solidFill>
                  <a:srgbClr val="ff0000"/>
                </a:solidFill>
                <a:latin typeface="Kristen ITC"/>
              </a:rPr>
              <a:t>	</a:t>
            </a:r>
            <a:r>
              <a:rPr b="0" lang="fr-FR" sz="1800" spc="-1" strike="noStrike">
                <a:solidFill>
                  <a:srgbClr val="ff0000"/>
                </a:solidFill>
                <a:latin typeface="Kristen ITC"/>
              </a:rPr>
              <a:t>     </a:t>
            </a:r>
            <a:r>
              <a:rPr b="0" lang="fr-FR" sz="1800" spc="-1" strike="noStrike">
                <a:solidFill>
                  <a:srgbClr val="00cc00"/>
                </a:solidFill>
                <a:latin typeface="Kristen ITC"/>
              </a:rPr>
              <a:t>Je vais aller à l’étranger</a:t>
            </a:r>
            <a:r>
              <a:rPr b="0" lang="fr-FR" sz="1800" spc="-1" strike="noStrike">
                <a:solidFill>
                  <a:srgbClr val="ff0000"/>
                </a:solidFill>
                <a:latin typeface="Kristen ITC"/>
              </a:rPr>
              <a:t>    J’aimerais visiter la 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3177360" y="333360"/>
            <a:ext cx="2727360" cy="916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Kristen ITC"/>
              </a:rPr>
              <a:t>SOL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AutoShape 4"/>
          <p:cNvSpPr/>
          <p:nvPr/>
        </p:nvSpPr>
        <p:spPr>
          <a:xfrm>
            <a:off x="1763640" y="1125360"/>
            <a:ext cx="5977080" cy="4319640"/>
          </a:xfrm>
          <a:prstGeom prst="hexagon">
            <a:avLst>
              <a:gd name="adj" fmla="val 34592"/>
              <a:gd name="vf" fmla="val 11547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Kristen ITC"/>
              </a:rPr>
              <a:t>Mettez les mo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Kristen ITC"/>
              </a:rPr>
              <a:t>dans la bonn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Kristen ITC"/>
              </a:rPr>
              <a:t>catégor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144360" y="0"/>
            <a:ext cx="1476360" cy="620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Fa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3924360" y="0"/>
            <a:ext cx="1584360" cy="6206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Ec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5796000" y="0"/>
            <a:ext cx="1511280" cy="9810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Aven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1979640" y="0"/>
            <a:ext cx="1512720" cy="620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Vac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142920" y="1268280"/>
            <a:ext cx="1476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Je vais a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1978200" y="1268280"/>
            <a:ext cx="151416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Le rug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3922560" y="1268280"/>
            <a:ext cx="1476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Le footb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5796000" y="1197000"/>
            <a:ext cx="151128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bron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7524720" y="0"/>
            <a:ext cx="1511280" cy="981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sport 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passe te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7559640" y="1268280"/>
            <a:ext cx="1476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en av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2"/>
          <p:cNvSpPr/>
          <p:nvPr/>
        </p:nvSpPr>
        <p:spPr>
          <a:xfrm>
            <a:off x="142920" y="2206800"/>
            <a:ext cx="1476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franç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3"/>
          <p:cNvSpPr/>
          <p:nvPr/>
        </p:nvSpPr>
        <p:spPr>
          <a:xfrm>
            <a:off x="3922560" y="2206800"/>
            <a:ext cx="147636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faire 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vé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4"/>
          <p:cNvSpPr/>
          <p:nvPr/>
        </p:nvSpPr>
        <p:spPr>
          <a:xfrm>
            <a:off x="5796000" y="2206800"/>
            <a:ext cx="1476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Gallo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5"/>
          <p:cNvSpPr/>
          <p:nvPr/>
        </p:nvSpPr>
        <p:spPr>
          <a:xfrm>
            <a:off x="7559640" y="2206800"/>
            <a:ext cx="1476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belle-mè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6"/>
          <p:cNvSpPr/>
          <p:nvPr/>
        </p:nvSpPr>
        <p:spPr>
          <a:xfrm>
            <a:off x="1978200" y="2205000"/>
            <a:ext cx="1476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mét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7"/>
          <p:cNvSpPr/>
          <p:nvPr/>
        </p:nvSpPr>
        <p:spPr>
          <a:xfrm>
            <a:off x="3922560" y="3141720"/>
            <a:ext cx="1476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Angl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8"/>
          <p:cNvSpPr/>
          <p:nvPr/>
        </p:nvSpPr>
        <p:spPr>
          <a:xfrm>
            <a:off x="7559640" y="3068640"/>
            <a:ext cx="1476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on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9"/>
          <p:cNvSpPr/>
          <p:nvPr/>
        </p:nvSpPr>
        <p:spPr>
          <a:xfrm>
            <a:off x="108000" y="4078440"/>
            <a:ext cx="1476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La pl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0"/>
          <p:cNvSpPr/>
          <p:nvPr/>
        </p:nvSpPr>
        <p:spPr>
          <a:xfrm>
            <a:off x="1978200" y="3070080"/>
            <a:ext cx="1476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hô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1"/>
          <p:cNvSpPr/>
          <p:nvPr/>
        </p:nvSpPr>
        <p:spPr>
          <a:xfrm>
            <a:off x="5794200" y="2997360"/>
            <a:ext cx="1476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au bo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de la 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2"/>
          <p:cNvSpPr/>
          <p:nvPr/>
        </p:nvSpPr>
        <p:spPr>
          <a:xfrm>
            <a:off x="108000" y="5014800"/>
            <a:ext cx="154764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faire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l’escal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3"/>
          <p:cNvSpPr/>
          <p:nvPr/>
        </p:nvSpPr>
        <p:spPr>
          <a:xfrm>
            <a:off x="3887640" y="4149720"/>
            <a:ext cx="1476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pè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4"/>
          <p:cNvSpPr/>
          <p:nvPr/>
        </p:nvSpPr>
        <p:spPr>
          <a:xfrm>
            <a:off x="7488360" y="4149720"/>
            <a:ext cx="1476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Á l’univers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5"/>
          <p:cNvSpPr/>
          <p:nvPr/>
        </p:nvSpPr>
        <p:spPr>
          <a:xfrm>
            <a:off x="1943280" y="4078440"/>
            <a:ext cx="1476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t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6"/>
          <p:cNvSpPr/>
          <p:nvPr/>
        </p:nvSpPr>
        <p:spPr>
          <a:xfrm>
            <a:off x="3887640" y="5159520"/>
            <a:ext cx="1476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Me ma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7"/>
          <p:cNvSpPr/>
          <p:nvPr/>
        </p:nvSpPr>
        <p:spPr>
          <a:xfrm>
            <a:off x="7488360" y="5087880"/>
            <a:ext cx="14763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Plus t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8"/>
          <p:cNvSpPr/>
          <p:nvPr/>
        </p:nvSpPr>
        <p:spPr>
          <a:xfrm>
            <a:off x="142920" y="3070080"/>
            <a:ext cx="1476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La vo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9"/>
          <p:cNvSpPr/>
          <p:nvPr/>
        </p:nvSpPr>
        <p:spPr>
          <a:xfrm>
            <a:off x="1943280" y="5087880"/>
            <a:ext cx="1476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géograph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0"/>
          <p:cNvSpPr/>
          <p:nvPr/>
        </p:nvSpPr>
        <p:spPr>
          <a:xfrm>
            <a:off x="5759280" y="5014800"/>
            <a:ext cx="1476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hist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1"/>
          <p:cNvSpPr/>
          <p:nvPr/>
        </p:nvSpPr>
        <p:spPr>
          <a:xfrm>
            <a:off x="5759280" y="4078440"/>
            <a:ext cx="14767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ciné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2"/>
          <p:cNvSpPr/>
          <p:nvPr/>
        </p:nvSpPr>
        <p:spPr>
          <a:xfrm>
            <a:off x="7488360" y="6165720"/>
            <a:ext cx="1476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frè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3"/>
          <p:cNvSpPr/>
          <p:nvPr/>
        </p:nvSpPr>
        <p:spPr>
          <a:xfrm>
            <a:off x="5724360" y="6021360"/>
            <a:ext cx="165600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Quand j’aur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dix-huit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4"/>
          <p:cNvSpPr/>
          <p:nvPr/>
        </p:nvSpPr>
        <p:spPr>
          <a:xfrm>
            <a:off x="3887640" y="6165720"/>
            <a:ext cx="1476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g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5"/>
          <p:cNvSpPr/>
          <p:nvPr/>
        </p:nvSpPr>
        <p:spPr>
          <a:xfrm>
            <a:off x="1943280" y="6165720"/>
            <a:ext cx="1476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mus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6"/>
          <p:cNvSpPr/>
          <p:nvPr/>
        </p:nvSpPr>
        <p:spPr>
          <a:xfrm>
            <a:off x="108000" y="6165720"/>
            <a:ext cx="1476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nev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0"/>
            <a:ext cx="1476360" cy="620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Fa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3780000" y="0"/>
            <a:ext cx="1584000" cy="6206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Ec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5651640" y="0"/>
            <a:ext cx="1511280" cy="981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Aven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1835280" y="0"/>
            <a:ext cx="1512720" cy="620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Vac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0" y="1411200"/>
            <a:ext cx="1476360" cy="432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Je vais a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1835280" y="1413000"/>
            <a:ext cx="1441440" cy="504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Le rug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3780000" y="1411200"/>
            <a:ext cx="1476360" cy="432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le footb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5653080" y="1339920"/>
            <a:ext cx="1511280" cy="576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bron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7380360" y="0"/>
            <a:ext cx="1511280" cy="981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sport 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passe te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1"/>
          <p:cNvSpPr/>
          <p:nvPr/>
        </p:nvSpPr>
        <p:spPr>
          <a:xfrm>
            <a:off x="7416720" y="1411200"/>
            <a:ext cx="1476360" cy="432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en av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2"/>
          <p:cNvSpPr/>
          <p:nvPr/>
        </p:nvSpPr>
        <p:spPr>
          <a:xfrm>
            <a:off x="0" y="2133720"/>
            <a:ext cx="1476360" cy="4316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franç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3"/>
          <p:cNvSpPr/>
          <p:nvPr/>
        </p:nvSpPr>
        <p:spPr>
          <a:xfrm>
            <a:off x="3780000" y="2133720"/>
            <a:ext cx="1476360" cy="5745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faire 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vé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4"/>
          <p:cNvSpPr/>
          <p:nvPr/>
        </p:nvSpPr>
        <p:spPr>
          <a:xfrm>
            <a:off x="5653080" y="2133720"/>
            <a:ext cx="1476360" cy="4316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gallo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5"/>
          <p:cNvSpPr/>
          <p:nvPr/>
        </p:nvSpPr>
        <p:spPr>
          <a:xfrm>
            <a:off x="7416720" y="2133720"/>
            <a:ext cx="1476360" cy="431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belle-mè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6"/>
          <p:cNvSpPr/>
          <p:nvPr/>
        </p:nvSpPr>
        <p:spPr>
          <a:xfrm>
            <a:off x="1835280" y="2131920"/>
            <a:ext cx="1476360" cy="432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mét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7"/>
          <p:cNvSpPr/>
          <p:nvPr/>
        </p:nvSpPr>
        <p:spPr>
          <a:xfrm>
            <a:off x="3780000" y="2995560"/>
            <a:ext cx="1476360" cy="43200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angl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8"/>
          <p:cNvSpPr/>
          <p:nvPr/>
        </p:nvSpPr>
        <p:spPr>
          <a:xfrm>
            <a:off x="7416720" y="2922480"/>
            <a:ext cx="1476360" cy="432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on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9"/>
          <p:cNvSpPr/>
          <p:nvPr/>
        </p:nvSpPr>
        <p:spPr>
          <a:xfrm>
            <a:off x="0" y="3645000"/>
            <a:ext cx="1476360" cy="431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La pl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0"/>
          <p:cNvSpPr/>
          <p:nvPr/>
        </p:nvSpPr>
        <p:spPr>
          <a:xfrm>
            <a:off x="1835280" y="2924280"/>
            <a:ext cx="1476360" cy="431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hô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1"/>
          <p:cNvSpPr/>
          <p:nvPr/>
        </p:nvSpPr>
        <p:spPr>
          <a:xfrm>
            <a:off x="5651640" y="2851200"/>
            <a:ext cx="1476360" cy="576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au bo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de la 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2"/>
          <p:cNvSpPr/>
          <p:nvPr/>
        </p:nvSpPr>
        <p:spPr>
          <a:xfrm>
            <a:off x="0" y="4437000"/>
            <a:ext cx="1547640" cy="576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faire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l’escal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3"/>
          <p:cNvSpPr/>
          <p:nvPr/>
        </p:nvSpPr>
        <p:spPr>
          <a:xfrm>
            <a:off x="3780000" y="3716280"/>
            <a:ext cx="1476360" cy="432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pè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4"/>
          <p:cNvSpPr/>
          <p:nvPr/>
        </p:nvSpPr>
        <p:spPr>
          <a:xfrm>
            <a:off x="7380360" y="3716280"/>
            <a:ext cx="1476360" cy="432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A l’univers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5"/>
          <p:cNvSpPr/>
          <p:nvPr/>
        </p:nvSpPr>
        <p:spPr>
          <a:xfrm>
            <a:off x="1835280" y="3645000"/>
            <a:ext cx="1476360" cy="431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t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6"/>
          <p:cNvSpPr/>
          <p:nvPr/>
        </p:nvSpPr>
        <p:spPr>
          <a:xfrm>
            <a:off x="3780000" y="4581360"/>
            <a:ext cx="1476360" cy="432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me ma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7"/>
          <p:cNvSpPr/>
          <p:nvPr/>
        </p:nvSpPr>
        <p:spPr>
          <a:xfrm>
            <a:off x="7380360" y="4510080"/>
            <a:ext cx="1476360" cy="50328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Plus t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8"/>
          <p:cNvSpPr/>
          <p:nvPr/>
        </p:nvSpPr>
        <p:spPr>
          <a:xfrm>
            <a:off x="0" y="2924280"/>
            <a:ext cx="1476360" cy="4316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La vo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9"/>
          <p:cNvSpPr/>
          <p:nvPr/>
        </p:nvSpPr>
        <p:spPr>
          <a:xfrm>
            <a:off x="1835280" y="4510080"/>
            <a:ext cx="1476360" cy="431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géograph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0"/>
          <p:cNvSpPr/>
          <p:nvPr/>
        </p:nvSpPr>
        <p:spPr>
          <a:xfrm>
            <a:off x="5651640" y="4437000"/>
            <a:ext cx="1476360" cy="57636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hist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1"/>
          <p:cNvSpPr/>
          <p:nvPr/>
        </p:nvSpPr>
        <p:spPr>
          <a:xfrm>
            <a:off x="5651640" y="3645000"/>
            <a:ext cx="1476360" cy="4316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ciné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2"/>
          <p:cNvSpPr/>
          <p:nvPr/>
        </p:nvSpPr>
        <p:spPr>
          <a:xfrm>
            <a:off x="7380360" y="5445000"/>
            <a:ext cx="1476360" cy="432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frè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3"/>
          <p:cNvSpPr/>
          <p:nvPr/>
        </p:nvSpPr>
        <p:spPr>
          <a:xfrm>
            <a:off x="5508720" y="5373720"/>
            <a:ext cx="1619280" cy="64764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Quand j’aura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dix-huit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4"/>
          <p:cNvSpPr/>
          <p:nvPr/>
        </p:nvSpPr>
        <p:spPr>
          <a:xfrm>
            <a:off x="3780000" y="5445000"/>
            <a:ext cx="1476360" cy="432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g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5"/>
          <p:cNvSpPr/>
          <p:nvPr/>
        </p:nvSpPr>
        <p:spPr>
          <a:xfrm>
            <a:off x="1835280" y="5445000"/>
            <a:ext cx="1476360" cy="432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mus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6"/>
          <p:cNvSpPr/>
          <p:nvPr/>
        </p:nvSpPr>
        <p:spPr>
          <a:xfrm>
            <a:off x="0" y="5445000"/>
            <a:ext cx="1476360" cy="432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nev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Oval 4"/>
          <p:cNvSpPr/>
          <p:nvPr/>
        </p:nvSpPr>
        <p:spPr>
          <a:xfrm>
            <a:off x="0" y="115920"/>
            <a:ext cx="5867280" cy="11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Kristen ITC"/>
              </a:rPr>
              <a:t>Adjecti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236520" y="1427040"/>
            <a:ext cx="1728720" cy="505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ut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ennuye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gén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excell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su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b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sym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gr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gour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pet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ro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5002200" y="1427040"/>
            <a:ext cx="1728720" cy="50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jau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vr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sport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paresse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tim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fac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joye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bla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diffic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d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f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6012000" y="115920"/>
            <a:ext cx="2808000" cy="7920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Sawl un ydych chi’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gwybo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2116080" y="1427040"/>
            <a:ext cx="2735280" cy="5054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6937200" y="1427040"/>
            <a:ext cx="2098800" cy="4894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Oval 4"/>
          <p:cNvSpPr/>
          <p:nvPr/>
        </p:nvSpPr>
        <p:spPr>
          <a:xfrm>
            <a:off x="0" y="115920"/>
            <a:ext cx="5867280" cy="11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Kristen ITC"/>
              </a:rPr>
              <a:t>Adjecti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250920" y="1417680"/>
            <a:ext cx="1728720" cy="508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ut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ennuye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gén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excell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su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b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sym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gr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gour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pet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ro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5003640" y="1427040"/>
            <a:ext cx="1729080" cy="50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jau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vr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sport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paresse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tim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fac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joye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bla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diffic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act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Kristen ITC"/>
              </a:rPr>
              <a:t>f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6012000" y="115920"/>
            <a:ext cx="2808000" cy="7920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Sawl un ydych chi’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gwybo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2124000" y="1413000"/>
            <a:ext cx="2735280" cy="5092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defnyddi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dif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gw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ardderch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ffantast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cared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brw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ba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b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Gwallt co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0"/>
          <p:cNvSpPr/>
          <p:nvPr/>
        </p:nvSpPr>
        <p:spPr>
          <a:xfrm>
            <a:off x="6804000" y="1427040"/>
            <a:ext cx="2232000" cy="4939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mely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cyw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Kristen ITC"/>
              </a:rPr>
              <a:t>Hoff o chwarae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di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sw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co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rhwy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hap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gwy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ano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bywi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Kristen ITC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anghyw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4"/>
          <p:cNvSpPr/>
          <p:nvPr/>
        </p:nvSpPr>
        <p:spPr>
          <a:xfrm>
            <a:off x="1116000" y="333360"/>
            <a:ext cx="7343640" cy="72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Kristen ITC"/>
              </a:rPr>
              <a:t>Quels sont les antonym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885240" y="1251000"/>
            <a:ext cx="2082240" cy="536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vr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blan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fac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touj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fro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garç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gag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bonj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paresse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ennuye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Il ple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5481360" y="1268280"/>
            <a:ext cx="2467080" cy="536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buClr>
                <a:srgbClr val="6666ff"/>
              </a:buClr>
              <a:buFont typeface="Kristen IT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ff"/>
                </a:solidFill>
                <a:latin typeface="Kristen ITC"/>
              </a:rPr>
              <a:t>jama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6666ff"/>
              </a:buClr>
              <a:buFont typeface="Kristen IT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ff"/>
                </a:solidFill>
                <a:latin typeface="Kristen ITC"/>
              </a:rPr>
              <a:t>fa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6666ff"/>
              </a:buClr>
              <a:buFont typeface="Kristen IT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ff"/>
                </a:solidFill>
                <a:latin typeface="Kristen ITC"/>
              </a:rPr>
              <a:t>Il y a du sole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6666ff"/>
              </a:buClr>
              <a:buFont typeface="Kristen IT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ff"/>
                </a:solidFill>
                <a:latin typeface="Kristen ITC"/>
              </a:rPr>
              <a:t>f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6666ff"/>
              </a:buClr>
              <a:buFont typeface="Kristen IT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ff"/>
                </a:solidFill>
                <a:latin typeface="Kristen ITC"/>
              </a:rPr>
              <a:t>cha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6666ff"/>
              </a:buClr>
              <a:buFont typeface="Kristen IT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ff"/>
                </a:solidFill>
                <a:latin typeface="Kristen ITC"/>
              </a:rPr>
              <a:t>fa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6666ff"/>
              </a:buClr>
              <a:buFont typeface="Kristen IT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ff"/>
                </a:solidFill>
                <a:latin typeface="Kristen ITC"/>
              </a:rPr>
              <a:t>travaill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6666ff"/>
              </a:buClr>
              <a:buFont typeface="Kristen IT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ff"/>
                </a:solidFill>
                <a:latin typeface="Kristen ITC"/>
              </a:rPr>
              <a:t>no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6666ff"/>
              </a:buClr>
              <a:buFont typeface="Kristen IT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ff"/>
                </a:solidFill>
                <a:latin typeface="Kristen ITC"/>
              </a:rPr>
              <a:t>diffic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6666ff"/>
              </a:buClr>
              <a:buFont typeface="Kristen IT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ff"/>
                </a:solidFill>
                <a:latin typeface="Kristen ITC"/>
              </a:rPr>
              <a:t>intéress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6666ff"/>
              </a:buClr>
              <a:buFont typeface="Kristen IT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ff"/>
                </a:solidFill>
                <a:latin typeface="Kristen ITC"/>
              </a:rPr>
              <a:t>Au revoi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6666ff"/>
              </a:buClr>
              <a:buFont typeface="Kristen IT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ff"/>
                </a:solidFill>
                <a:latin typeface="Kristen ITC"/>
              </a:rPr>
              <a:t>perd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3995640" y="1268280"/>
            <a:ext cx="1152720" cy="536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buClr>
                <a:srgbClr val="9900cc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cc"/>
                </a:solidFill>
                <a:latin typeface="Kristen ITC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9900cc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cc"/>
                </a:solidFill>
                <a:latin typeface="Kristen ITC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9900cc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cc"/>
                </a:solidFill>
                <a:latin typeface="Kristen ITC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9900cc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cc"/>
                </a:solidFill>
                <a:latin typeface="Kristen ITC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9900cc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cc"/>
                </a:solidFill>
                <a:latin typeface="Kristen ITC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9900cc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cc"/>
                </a:solidFill>
                <a:latin typeface="Kristen ITC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9900cc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cc"/>
                </a:solidFill>
                <a:latin typeface="Kristen ITC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9900cc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cc"/>
                </a:solidFill>
                <a:latin typeface="Kristen ITC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9900cc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cc"/>
                </a:solidFill>
                <a:latin typeface="Kristen ITC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9900cc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cc"/>
                </a:solidFill>
                <a:latin typeface="Kristen ITC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9900cc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cc"/>
                </a:solidFill>
                <a:latin typeface="Kristen ITC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9900cc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cc"/>
                </a:solidFill>
                <a:latin typeface="Kristen ITC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4"/>
          <p:cNvSpPr/>
          <p:nvPr/>
        </p:nvSpPr>
        <p:spPr>
          <a:xfrm>
            <a:off x="1116000" y="333360"/>
            <a:ext cx="7343640" cy="72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Kristen ITC"/>
              </a:rPr>
              <a:t>Quels sont les antonym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885240" y="1251000"/>
            <a:ext cx="2082240" cy="536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vr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blan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fac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touj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fro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garç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gag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bonj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paresse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ennuye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Kristen ITC"/>
              </a:rPr>
              <a:t>Il ple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5481360" y="1268280"/>
            <a:ext cx="2467080" cy="536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buClr>
                <a:srgbClr val="6666ff"/>
              </a:buClr>
              <a:buFont typeface="Kristen IT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ff"/>
                </a:solidFill>
                <a:latin typeface="Kristen ITC"/>
              </a:rPr>
              <a:t>jama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6666ff"/>
              </a:buClr>
              <a:buFont typeface="Kristen IT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ff"/>
                </a:solidFill>
                <a:latin typeface="Kristen ITC"/>
              </a:rPr>
              <a:t>fa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6666ff"/>
              </a:buClr>
              <a:buFont typeface="Kristen IT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ff"/>
                </a:solidFill>
                <a:latin typeface="Kristen ITC"/>
              </a:rPr>
              <a:t>Il y a du sole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6666ff"/>
              </a:buClr>
              <a:buFont typeface="Kristen IT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ff"/>
                </a:solidFill>
                <a:latin typeface="Kristen ITC"/>
              </a:rPr>
              <a:t>f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6666ff"/>
              </a:buClr>
              <a:buFont typeface="Kristen IT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ff"/>
                </a:solidFill>
                <a:latin typeface="Kristen ITC"/>
              </a:rPr>
              <a:t>cha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6666ff"/>
              </a:buClr>
              <a:buFont typeface="Kristen IT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ff"/>
                </a:solidFill>
                <a:latin typeface="Kristen ITC"/>
              </a:rPr>
              <a:t>fa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6666ff"/>
              </a:buClr>
              <a:buFont typeface="Kristen IT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ff"/>
                </a:solidFill>
                <a:latin typeface="Kristen ITC"/>
              </a:rPr>
              <a:t>travaill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6666ff"/>
              </a:buClr>
              <a:buFont typeface="Kristen IT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ff"/>
                </a:solidFill>
                <a:latin typeface="Kristen ITC"/>
              </a:rPr>
              <a:t>no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6666ff"/>
              </a:buClr>
              <a:buFont typeface="Kristen IT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ff"/>
                </a:solidFill>
                <a:latin typeface="Kristen ITC"/>
              </a:rPr>
              <a:t>diffic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6666ff"/>
              </a:buClr>
              <a:buFont typeface="Kristen IT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ff"/>
                </a:solidFill>
                <a:latin typeface="Kristen ITC"/>
              </a:rPr>
              <a:t>intéress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6666ff"/>
              </a:buClr>
              <a:buFont typeface="Kristen IT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ff"/>
                </a:solidFill>
                <a:latin typeface="Kristen ITC"/>
              </a:rPr>
              <a:t>Au revo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6666ff"/>
              </a:buClr>
              <a:buFont typeface="Kristen IT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66ff"/>
                </a:solidFill>
                <a:latin typeface="Kristen ITC"/>
              </a:rPr>
              <a:t>perd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3980160" y="1268280"/>
            <a:ext cx="1050480" cy="536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buClr>
                <a:srgbClr val="9900cc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cc"/>
                </a:solidFill>
                <a:latin typeface="Kristen ITC"/>
              </a:rPr>
              <a:t>=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9900cc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cc"/>
                </a:solidFill>
                <a:latin typeface="Kristen ITC"/>
              </a:rPr>
              <a:t>=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9900cc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cc"/>
                </a:solidFill>
                <a:latin typeface="Kristen ITC"/>
              </a:rPr>
              <a:t>=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9900cc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cc"/>
                </a:solidFill>
                <a:latin typeface="Kristen ITC"/>
              </a:rPr>
              <a:t>=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9900cc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cc"/>
                </a:solidFill>
                <a:latin typeface="Kristen ITC"/>
              </a:rPr>
              <a:t>=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9900cc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cc"/>
                </a:solidFill>
                <a:latin typeface="Kristen ITC"/>
              </a:rPr>
              <a:t>=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9900cc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cc"/>
                </a:solidFill>
                <a:latin typeface="Kristen ITC"/>
              </a:rPr>
              <a:t>=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9900cc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cc"/>
                </a:solidFill>
                <a:latin typeface="Kristen ITC"/>
              </a:rPr>
              <a:t>=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9900cc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cc"/>
                </a:solidFill>
                <a:latin typeface="Kristen ITC"/>
              </a:rPr>
              <a:t>=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9900cc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cc"/>
                </a:solidFill>
                <a:latin typeface="Kristen ITC"/>
              </a:rPr>
              <a:t>=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9900cc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cc"/>
                </a:solidFill>
                <a:latin typeface="Kristen ITC"/>
              </a:rPr>
              <a:t>=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9900cc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cc"/>
                </a:solidFill>
                <a:latin typeface="Kristen ITC"/>
              </a:rPr>
              <a:t>=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9:02:43Z</dcterms:created>
  <dc:creator>Nuala</dc:creator>
  <dc:description/>
  <dc:language>en-US</dc:language>
  <cp:lastModifiedBy>Mrs Evans</cp:lastModifiedBy>
  <cp:lastPrinted>2011-12-16T11:22:41Z</cp:lastPrinted>
  <dcterms:modified xsi:type="dcterms:W3CDTF">2013-04-29T12:16:44Z</dcterms:modified>
  <cp:revision>60</cp:revision>
  <dc:subject/>
  <dc:title>Slide 1</dc:title>
</cp:coreProperties>
</file>